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71C-0013-4A35-8387-4EDB99E7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D6A-B9A7-4EB0-9B15-492C865B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E16-AC02-4FCE-AA93-42B613B5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67E-7743-472B-AB8E-9573DF6D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10F5-413B-494E-BC1F-6FD9CE42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A396-8511-46BE-9E0B-B372EC4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3E84-129F-4D28-A5D9-4AC5B28F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B089-D506-471A-ABAA-43D73D65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8C84-9B10-4362-AED6-7BC204C7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381E-BA7C-437A-8EC8-A7B419EB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39A5-8415-446F-904D-1124AB18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33C-4220-42B7-B52D-A04FD48A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76A7-D68C-4428-AE33-AEF8E0DA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E8C0-69A4-4CE6-AD4C-A66517E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7805-DEFA-45B8-BABA-2E5BEC13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56E-7CF2-418C-808B-AC57FD7C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1423-2255-4566-A4C0-E8365A3E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FD9-2892-4125-81AE-21F9D4BB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0A2-BB02-4DC9-915D-8A1E5000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9D1-DA17-4589-83E7-7BFD255E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3AE-4F47-415B-8E6C-937BCECF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4BA-0E46-4B45-B503-2B5475F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49A-81E3-4FBC-BD6B-099D2FB6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B37-807D-4237-ADFF-0B8F46A8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8C7F-8AD2-4FAD-80A4-1605A94C5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8FCF-6018-4607-8BB3-DE9A3710D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eachers.tv/videos" TargetMode="External"/><Relationship Id="rId3" Type="http://schemas.openxmlformats.org/officeDocument/2006/relationships/hyperlink" Target="http://www.teachers.tv/videos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ljbI-363A2Q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Personalising learning</a:t>
            </a:r>
            <a:br>
              <a:rPr sz="4400"/>
            </a:b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….what’s it all about?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096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OM Norther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/2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by Deb Vie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ading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groups to number off from 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hom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me groups share your insights from your reading. 5 mins max per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ading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chool groups add to your concept map in a second co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ere these ideas are represented in your school’s vision and learning and teaching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spects are st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spects are omit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9 Gatewa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in the UK the Specialist schools and academy trust, in partnership with Prof David Hargreaves, undertook a journey with English schools to explore what was meant by personalising learning and what it looked like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9 Gatewa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ive look at personalisation from the different, but complementary, perspectives afforded by a series of gate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hy these 9?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s applicable to every school and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s already a part of current profession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strong leadership if progress is to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s potentially a way of enhancing student motivation and commitment to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to personalised learning can be made through any gate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from one gateway soon leads to one or more of th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to recognise the interconnectedness of the gateway as there is a danger of generating separate silos of inno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chool refl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your concept map and add in a third colour if appropr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s your thinking developed since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what you are already doing in the different gate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reaming- visioning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like your school to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Focusing the vis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or two areas you think you might like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MI of what you think is currently happening at you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Aim of toda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oaden and clarify our understandings of personalis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ore articles and research nationally and inter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the ‘9 gateways’ as a framework to explore ways of personalis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ore and begin to frame up an area of personalising learning you wish to develop at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Focusing the vis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cted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d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eed to find out/collect evidenc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last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The next step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session task- to collect evidence about what is actually happ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refine your ideas about a focus- start small then divide by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hat do we know about personalising learning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current ‘buzz’ term- bi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ot something to do with meeting the needs of each individu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efinition from an expert sourc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sed Learning is the tailoring of pedagogy, curriculum and learning support to meet the needs and aspirations of individual lea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hild at a tim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79ab6"/>
                </a:solidFill>
                <a:uFillTx/>
                <a:latin typeface="Arial"/>
                <a:hlinkClick r:id="rId2"/>
              </a:rPr>
              <a:t>http://www.teachers.</a:t>
            </a:r>
            <a:r>
              <a:rPr b="0" lang="en-US" sz="3200" spc="-1" strike="noStrike" u="sng">
                <a:solidFill>
                  <a:srgbClr val="779ab6"/>
                </a:solidFill>
                <a:uFillTx/>
                <a:latin typeface="Arial"/>
                <a:hlinkClick r:id="rId3"/>
              </a:rPr>
              <a:t>tv/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not specify- and should not seek - a formal definition of devising, organising and implementing ways of personalisation before we embark on the journeys of these innovation networks (the 9 gateways). We shall discover what personalisation is during the journey itself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gr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o let the journey begi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personalising learning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describ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schol groups create a concept map to show your ideas. (One colo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hat are the forces driving this initiative?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Happens  </a:t>
            </a:r>
            <a:r>
              <a:rPr b="0" lang="en-US" sz="3200" spc="-1" strike="noStrike" u="sng">
                <a:solidFill>
                  <a:srgbClr val="779ab6"/>
                </a:solidFill>
                <a:uFillTx/>
                <a:latin typeface="Arial"/>
                <a:hlinkClick r:id="rId2"/>
              </a:rPr>
              <a:t>http://www.youtube.com/watch?v=ljbI-363A2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ading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reading and move to an expert group. Each expert group should have 5-7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discuss your arti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the questions as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key points your group raise (all members must recor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4:06:30Z</dcterms:created>
  <dc:creator>Deborah Vietri</dc:creator>
  <dc:description/>
  <dc:language>en-US</dc:language>
  <cp:lastModifiedBy>Deborah Vietri</cp:lastModifiedBy>
  <dcterms:modified xsi:type="dcterms:W3CDTF">2010-02-18T07:33:07Z</dcterms:modified>
  <cp:revision>5</cp:revision>
  <dc:subject/>
  <dc:title>Personalising learning ….what’s it all about?</dc:title>
</cp:coreProperties>
</file>